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38F0-DD1D-4335-9BD4-FFACACA6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469B-23F6-475E-86A3-67225978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328-D0AF-41A5-8222-E844732D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A745-8EE2-4E97-A656-6A63B5AD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A437-7C55-4F75-91F7-7AF47808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E42E-5D32-4600-8C0A-0C806DA3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8637-D6A3-46D9-8FDF-D9086FB5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4E57-7D94-43F6-8CF4-E70B95FD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3880-7267-46B3-B37C-906C289F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44C-DC50-4C17-B56F-FCB86C4D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0FE8-EAAF-4A6A-993F-CB0D97DC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EE8-9802-40A5-8751-38DC59B1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3404-B7E7-47E6-B002-FBAF0420E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990720"/>
            <a:ext cx="8305560" cy="302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aa3517"/>
                </a:solidFill>
                <a:latin typeface="Lucida Handwriting"/>
              </a:rPr>
              <a:t>Valentine’s Da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191120" y="2666880"/>
            <a:ext cx="373356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2057400"/>
            <a:ext cx="7162560" cy="4276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4400" y="1219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3517"/>
                </a:solidFill>
                <a:latin typeface="Arial"/>
              </a:rPr>
              <a:t>… </a:t>
            </a:r>
            <a:r>
              <a:rPr b="0" lang="en-US" sz="3600" spc="-1" strike="noStrike">
                <a:solidFill>
                  <a:srgbClr val="aa3517"/>
                </a:solidFill>
                <a:latin typeface="Arial"/>
              </a:rPr>
              <a:t>or jewel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6427800" cy="4267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3517"/>
                </a:solidFill>
                <a:latin typeface="Arial"/>
              </a:rPr>
              <a:t>They find ways to say, “I love you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533520"/>
            <a:ext cx="53658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81756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699768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749448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4190760" cy="6019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48320" y="3048120"/>
            <a:ext cx="411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a3517"/>
                </a:solidFill>
                <a:latin typeface="Arial"/>
              </a:rPr>
              <a:t>Happy Valentine’s Day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632448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eslhome.net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6934320" cy="459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304920"/>
            <a:ext cx="8610480" cy="703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3517"/>
                </a:solidFill>
                <a:latin typeface="Arial"/>
              </a:rPr>
              <a:t>Valentine’s Day is February 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419720" y="762120"/>
            <a:ext cx="4203720" cy="5181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3048120"/>
            <a:ext cx="342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3517"/>
                </a:solidFill>
                <a:latin typeface="Arial"/>
              </a:rPr>
              <a:t>Children have parties at school and give each other valentine c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5410440" cy="4049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3517"/>
                </a:solidFill>
                <a:latin typeface="Arial"/>
              </a:rPr>
              <a:t>People eat heart-shaped food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58672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a3517"/>
                </a:solidFill>
                <a:latin typeface="Arial"/>
              </a:rPr>
              <a:t>… </a:t>
            </a:r>
            <a:r>
              <a:rPr b="0" i="1" lang="en-US" sz="2800" spc="-1" strike="noStrike">
                <a:solidFill>
                  <a:srgbClr val="aa3517"/>
                </a:solidFill>
                <a:latin typeface="Arial"/>
              </a:rPr>
              <a:t>like can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371600" y="762120"/>
            <a:ext cx="6248520" cy="4657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95280" y="56386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a3517"/>
                </a:solidFill>
                <a:latin typeface="Arial"/>
              </a:rPr>
              <a:t>… </a:t>
            </a:r>
            <a:r>
              <a:rPr b="0" i="1" lang="en-US" sz="2800" spc="-1" strike="noStrike">
                <a:solidFill>
                  <a:srgbClr val="aa3517"/>
                </a:solidFill>
                <a:latin typeface="Arial"/>
              </a:rPr>
              <a:t>or cook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5105520" cy="5105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553080" y="52578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a3517"/>
                </a:solidFill>
                <a:latin typeface="Arial"/>
              </a:rPr>
              <a:t>… </a:t>
            </a:r>
            <a:r>
              <a:rPr b="0" i="1" lang="en-US" sz="2800" spc="-1" strike="noStrike">
                <a:solidFill>
                  <a:srgbClr val="aa3517"/>
                </a:solidFill>
                <a:latin typeface="Arial"/>
              </a:rPr>
              <a:t>even waffl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7920" y="762120"/>
            <a:ext cx="6248160" cy="4346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25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53341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3517"/>
                </a:solidFill>
                <a:latin typeface="Arial"/>
              </a:rPr>
              <a:t>Adults ask their sweethearts to be their valent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66680" y="1092240"/>
            <a:ext cx="69026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3962160" cy="5845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0" y="365760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3517"/>
                </a:solidFill>
                <a:latin typeface="Arial"/>
              </a:rPr>
              <a:t>Sometimes people give valentine gifts like flowers, candy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05:49:44Z</dcterms:created>
  <dc:creator>Carol Martin</dc:creator>
  <dc:description/>
  <dc:language>en-US</dc:language>
  <cp:lastModifiedBy> </cp:lastModifiedBy>
  <dcterms:modified xsi:type="dcterms:W3CDTF">2009-02-19T10:03:01Z</dcterms:modified>
  <cp:revision>5</cp:revision>
  <dc:subject/>
  <dc:title>PowerPoint Presentation</dc:title>
</cp:coreProperties>
</file>